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7EDDE-193F-4CC2-8658-1277B75D7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7648D-6934-4E40-BC42-5B3980FFC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1036F-FEE3-4534-A9EF-B44BA5686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FA63F-8115-4AD6-9E17-511F30E56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31A3-A5F6-4448-AA7F-E5A285DE4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187ED-1C3D-415B-A4BC-3269E831E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85C72-5E2B-4315-AE5B-7C5C59626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8C1A7-C1AB-45BD-9FBD-75F00C1D2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BACD7-646E-462A-B311-C4507910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CCA2-2422-437F-9AF2-DC4F17A05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8016E-7699-40BF-9991-44058DA0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58BF-6B8C-4179-B593-14CAD842F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1346-2B52-45EB-807A-CB91F10416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Office Laptop</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erfect portable workstation for the home off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Office Laptop</a:t>
            </a:r>
            <a:endParaRPr b="0" lang="en-US"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fect portable workstation for the home offi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8 GB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DVR Technics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3 lb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tery Life:2 hours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home and office laptop is ideal for creating and working with all your important documents. You can work on everything your personal or business needs might require. Your home office has never been more efficient, and more p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9-23T02:32:51Z</dcterms:created>
  <dc:creator>Craig Oakley</dc:creator>
  <dc:description/>
  <dc:language>en-US</dc:language>
  <cp:lastModifiedBy>Craig Oakley</cp:lastModifiedBy>
  <dcterms:modified xsi:type="dcterms:W3CDTF">2021-09-23T02:37:13Z</dcterms:modified>
  <cp:revision>1</cp:revision>
  <dc:subject/>
  <dc:title>Office Laptop</dc:title>
</cp:coreProperties>
</file>