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DDEB4-2F29-4596-964E-FA59207B7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D5920-07DE-491B-A4FC-459505BB2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8B9C9-4A2F-4953-80FB-0E1EB873A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FED44-D5DE-43BD-9536-1C33265A0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6B456-6B16-4EA5-AD1D-BB0AC1DEB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BBA5A-5C8B-4738-B5A0-6FC37A3F7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5E840-7467-4DD6-AAAD-63D5852CF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A05F3-AA42-47CF-9CA2-F5C97D99B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8BB47-ADF7-450C-B733-4FD4BB972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FCC27-7796-4791-A6D8-C898CCBB6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4116E-00CF-4B33-B440-CE38B3F5B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B432F-4A1F-4768-9BDB-4FABEEA62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45C1-2891-42FA-8DAC-AB405994329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Light"/>
              </a:rPr>
              <a:t>Office Laptop</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erfect portable workstation for the home offi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Office Laptop</a:t>
            </a:r>
            <a:endParaRPr b="0" lang="en-US" sz="4400" spc="-1" strike="noStrike">
              <a:solidFill>
                <a:srgbClr val="000000"/>
              </a:solidFill>
              <a:latin typeface="Calibri Light"/>
            </a:endParaRPr>
          </a:p>
        </p:txBody>
      </p:sp>
      <p:sp>
        <p:nvSpPr>
          <p:cNvPr id="44"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erfect portable workstation for the home offic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ory:8 GB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DVR Technics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ight:3 lb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ttery Life:2 hours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home and office laptop is ideal for creating and working with all your important documents. You can work on everything your personal or business needs might require. Your home office has never been more efficient, and more port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9-23T02:32:51Z</dcterms:created>
  <dc:creator>Craig Oakley</dc:creator>
  <dc:description/>
  <dc:language>en-US</dc:language>
  <cp:lastModifiedBy>Craig Oakley</cp:lastModifiedBy>
  <dcterms:modified xsi:type="dcterms:W3CDTF">2021-09-23T02:37:13Z</dcterms:modified>
  <cp:revision>1</cp:revision>
  <dc:subject/>
  <dc:title>Office Laptop</dc:title>
</cp:coreProperties>
</file>